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45E-9A85-4C60-91A3-342FCD4E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D47-2C74-41BE-BD05-D48A8FE0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DCC-3E13-465C-B571-EAF75A23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E22-31AB-4C7E-9906-7289C4A0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ACB-5F41-457E-AF92-93061DB9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AE5-3D04-4E6C-A8FE-170486B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EE4-8530-41E4-B377-6AD83479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34F-A189-4945-A7F6-A8E9D1DE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D2C-91BE-477F-94A0-91F32F4C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C77-F2BF-41E2-8D8F-B2A15AB0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72B-1E80-4EBF-9C83-122EC738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286-ABF8-4D39-A781-5F3F5F70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592-2F54-4E8C-A4DD-66D38A00A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sonline.bl.uk/britishlibrary/controller/subjectidsearch?id=898&amp;startid=932&amp;width=4&amp;height=2&amp;idx=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457200"/>
            <a:ext cx="5484960" cy="572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ml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aer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instant reaction / reveng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1905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phel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madness / suici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4114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tinbr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political ac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4114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orat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talk / narra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590920"/>
            <a:ext cx="5335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876920" y="25909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505320"/>
            <a:ext cx="53316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581280" y="3505320"/>
            <a:ext cx="60984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295280"/>
            <a:ext cx="15242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one perspective, Hamlet is a focus of self-consciousness, carefully managing his interactions with external others.  He is thus a precursor of modern dramatic charac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1371600"/>
            <a:ext cx="16765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other perspective, Hamlet interacts with other characters who represent actions and emotions that are options for Hamlet himself.  He is thus an echo of medieval, allegorical dramatic figu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let cloaks the Ghost’s secret behind an “antic disposi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strange or odd soe'er I bear myself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I perchance hereafter shall think mee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ut an antic disposition o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you, at such times seeing me, never shall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rms encumber'd thus, or this headshak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by pronouncing of some doubtful phras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'Well, well, we know,' or 'We could, an if we would,'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'If we list to speak,' or 'There be, an if they might,'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such ambiguous giving out, to no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you know aught of me: this not to do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grace and mercy at your most need help you, Swear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attempts to prove the Ghost’s tale by sift Clau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dius and Polonius attempt to sift Hamlet through Ophelia, Rosencrantz &amp; Gilden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onths interval between Act I &amp;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e done in thi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Hamlet wait to enact reve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od, sink into a slough of despond (getting into charact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 plan a fitting reve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ant to injure the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rove the Ghost’s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develop his inane character, which would give him the freedom of speech and action that he rel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5334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let’s costu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hel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his doublet all unbraced,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t upon his head, his stockings fouled, / Ungart’red, and down-gyved to his ankle,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 as his shir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ccording to historians, he adopts the guise of a forelorn lover, a la Rom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icture of 'Musketeer in red doublet'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762120"/>
            <a:ext cx="2667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and Ophelia: greatest puzzle of the play?  Greater than the de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once loved her, but ceases to do so after the Ghost’s tale. In Act V, he tells Laertes he always loved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he cease to love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inc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says to his m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n act / That blurs the grace and blush of modesty, / Calls virtue hypocrite, takes off the rose / From the fair forehead of an innocent love / And sets a blister there.” (branding of a harlo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s Ophelia, “Get thee to a nunnery” and to ban all marriages (referring to his Mother too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treats Ophelia like a prostitute, but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nius says to Claudius and Gertr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uch a time I'll loose my daughter to hi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you and I behind an arras then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encounter: if he love her no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e not from his reason fall'n there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me be no assistant for a stat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keep a farm and cart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overhears what Polonius sa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1:03:36Z</dcterms:created>
  <dc:creator>Gateway</dc:creator>
  <dc:description/>
  <dc:language>en-US</dc:language>
  <cp:lastModifiedBy>mstultz</cp:lastModifiedBy>
  <dcterms:modified xsi:type="dcterms:W3CDTF">2006-12-07T14:13:12Z</dcterms:modified>
  <cp:revision>2</cp:revision>
  <dc:subject/>
  <dc:title>Slide 1</dc:title>
</cp:coreProperties>
</file>